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12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wmf" ContentType="image/x-wmf"/>
  <Override PartName="/ppt/media/image5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94A-0B3B-4573-86A6-5ED802799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48E3A-5E98-4DB6-876C-C6C19D555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0CF2-95A0-4393-B0E4-1F92ABB5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FD05-2B95-4681-A9F0-F9B6EDB4C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2011-773E-4ADB-A435-901FD030C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F7A1F-4291-4A6D-B46A-70F7304C9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7703-1BFD-4D99-BBEF-55AA90DA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41D8-50CC-4650-8570-6497013B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6DA1B-11F9-4B9F-89DB-8DA90550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0C8-792E-434A-A3BE-B5C4275B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80EB-A3C0-4A81-8461-5266BC8F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70D9-909F-465A-93F3-6323423DC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73B5-A83C-491E-AF6E-8959856B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5733-C9F1-4887-A59D-A3814B1C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B8CA8-01E0-4698-B4C0-5323E31C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B7EEC-BBA0-42C5-A51B-87B20C943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B390-E333-4B2A-92C6-595F54D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3C865-2036-4D73-9D85-0076D011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99FA-087D-4C9D-859F-9C16311C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8B97-16A1-4593-8858-8AD4D1AA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D33-BE38-461F-9C43-EB9470D1F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9BD7-D6FD-4967-BB13-E7632FA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7C041-390C-45B6-A6AD-AAC15740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7130-92F5-4131-8BDD-C9E10024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D317-5D4E-4246-8D82-8C9E58F5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3F69-93AF-4B63-AD08-07E5B9F9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D8C6-3EBA-4950-9C3D-F9149021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A2F03-744B-4155-9835-B9CE7B6D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C96E7-0E04-4ECD-B069-F750876D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C70B3-FE31-4E6A-B132-9F7DC11C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78D2B-A5EB-4B20-8653-1F615450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FFC0-27E7-4CA9-82CE-A017A00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60526-9617-4CD4-9BAA-0A8E35AF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89957-4C09-417B-B3E3-D61A34EB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59B8D-371F-4627-8165-62623574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F47D-408F-47E5-8937-0F774EA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966A-1CCF-4038-91B8-D830A0DB8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72D6E-9C8D-4495-8A7E-C77F5791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0F801-36C6-4ED4-B602-3148D13BE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A1A1D-EADF-4943-BBD2-F936BAE6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C61B7-70C8-45BD-BD91-085D307C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58412-68D9-4D9A-BC51-B406768D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CD0-E240-4AB2-9A19-251A5A3C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6BFE3-62A5-4FF6-A58D-EEDA1ECB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D2215-3C4F-4FEB-A5E5-19122C73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ABC9C-3599-4257-AEFB-D26C8486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DC07F-573E-453E-A8BB-4F94BA70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4256E-C4A8-44CA-9FF9-AD07F005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2A555-084D-43AA-A86F-C01682B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BFB91-9DF6-410D-B3D5-DD83A110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82357-076A-494A-AB0A-7CC3CCDD1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33956-3FD9-4FE0-9036-D728610E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C4C63-3A30-4551-820D-81E6FD9A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54F5-F0A8-48AC-A118-C90507A5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6E31B-A26E-4D81-8AB0-BB5A1608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35146-C842-4867-826F-BF61BB79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885E27-0398-4B21-B342-DC9BEDBE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97D23-FE73-433F-89E6-E574EA87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3DE4-864A-4697-BA48-77EED075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86A04-A6C3-4580-85EC-73AD1A0F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19409-627E-43FB-8722-E1329C95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70F13-1F46-4516-A2C1-0EFBA35B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C5FBE-5845-4901-9508-56604752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38577-CB4F-4050-A42F-A5ABDF9A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713-7982-4812-B09E-0E3DC350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833D5-1192-4DDD-BA54-375A6D309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5A8449-6F86-40B5-9E7B-84982F308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A206E2-B1C5-47DA-B390-51828C20C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D22C8-1738-4487-8BA6-F3C31891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B4CE1-4342-4CEF-A98D-B0C077DD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0304E-8424-435C-BCD6-48C25861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8E81E-982F-4FEB-82FF-AB840D7D6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B7B5E-250D-4D6C-9C53-CCF13852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AAC03-809F-4562-AF9E-AAC6B2A4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258F4-6E5C-452F-BFF4-E38B9983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46C5-AB03-4C2E-9DF3-DA96880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372E9-347B-45A4-9760-0A1A641D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9F638-CB13-4A34-9A6A-8D1EB1AE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B0E42-0239-4F6F-BE9B-BF35CCD9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AC026-596B-47F8-99EE-E4C0B9F2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5D3F9-9F0A-4F12-ABAA-889812F9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68654-39E4-404C-A102-16B89A223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1FB63-4C0B-4501-AB46-D18BFF0D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E9769-C72E-46E5-804A-BD7E550D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C75E4-FD0F-4095-881C-2702FF85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008F4-0D07-42E6-A217-8BA0E7FC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2A11-744B-4B27-B4BC-FC961272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50831-B28D-4712-B8FF-296C253A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65B504-9E13-49D2-BECE-D77A8507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EB546-02FC-49F0-8C22-00E56EB17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1E452-AC80-4748-BAE8-4A7FE680B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55E7E-A686-4C84-8CB7-3D9C5D61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DADDA-E945-41D6-9429-0574BB01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7FE3-320D-4AF2-9837-E4481E95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33E62-FF93-490B-ABE2-BEA3BEC6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E3BF9-8020-4884-AD50-4177DB93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4315E-064F-46F8-BAF0-75B39F759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86D-283D-4910-B38B-B78EA01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E1466-4556-4BF6-9464-5E6AB9A9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AE4DD-A574-4A49-A4B4-6E31D8C6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16A3D-7E01-435E-9A60-546C2593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E3C6C-DD46-45A8-A1E3-2D86A2C6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75A0D9-684B-40CA-A2C3-8B61B104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0EA1B-8210-455C-99C3-34722B4D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767FD-AC5F-4372-8AAF-A2DEFD5A3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E811-20A3-4E0C-9D1B-7DDA7DB36E4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831EC-A8FB-4274-A724-482360B9388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8488-47E9-486D-B1B4-EC13B0F91D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3C0A-4037-4339-9758-C897097F79D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8443-FF6A-435C-AFC0-B4036E8F2A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8779-F37C-4A7E-B69E-ADDC0A339F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6960-E2FE-4A1A-BE21-50BB173925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998D1-08B7-41D8-8683-90783731A6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kidsplanet.org/factsheets/map.html" TargetMode="External"/><Relationship Id="rId2" Type="http://schemas.openxmlformats.org/officeDocument/2006/relationships/image" Target="../media/image8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2663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 help sharks by not killing any sharks and by keeping the ocean clea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0" descr="C:\Documents and Settings\bcsuser\Local Settings\Temporary Internet Files\Content.IE5\9KTC181G\MPj04392240000[1].jpg"/>
          <p:cNvPicPr/>
          <p:nvPr/>
        </p:nvPicPr>
        <p:blipFill>
          <a:blip r:embed="rId2"/>
          <a:stretch/>
        </p:blipFill>
        <p:spPr>
          <a:xfrm>
            <a:off x="2438280" y="297036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www.kidsplanet.org/factsheets/map.htm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s is the website I used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Program Files\Microsoft Office\MEDIA\CAGCAT10\j0285750.wmf"/>
          <p:cNvPicPr/>
          <p:nvPr/>
        </p:nvPicPr>
        <p:blipFill>
          <a:blip r:embed="rId3"/>
          <a:stretch/>
        </p:blipFill>
        <p:spPr>
          <a:xfrm>
            <a:off x="4648320" y="2895480"/>
            <a:ext cx="3932280" cy="24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average size for Pygmy shark is about 7-8 inch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2" descr="C:\Users\bcsuser\AppData\Local\Microsoft\Windows\Temporary Internet Files\Content.IE5\6BPGJHM6\MPj04011390000[1].jpg"/>
          <p:cNvPicPr/>
          <p:nvPr/>
        </p:nvPicPr>
        <p:blipFill>
          <a:blip r:embed="rId2"/>
          <a:stretch/>
        </p:blipFill>
        <p:spPr>
          <a:xfrm>
            <a:off x="4343400" y="2514600"/>
            <a:ext cx="28702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lifespan is 20-30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C:\Users\bcsuser\AppData\Local\Microsoft\Windows\Temporary Internet Files\Content.IE5\IJG4BY4M\MPj04448010000[1].jpg"/>
          <p:cNvPicPr/>
          <p:nvPr/>
        </p:nvPicPr>
        <p:blipFill>
          <a:blip r:embed="rId2"/>
          <a:stretch/>
        </p:blipFill>
        <p:spPr>
          <a:xfrm>
            <a:off x="3124080" y="2590920"/>
            <a:ext cx="4175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daily diet is mostly krill , fish and other shark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C:\Users\bcsuser\AppData\Local\Microsoft\Windows\Temporary Internet Files\Content.IE5\IQ341GVU\MPj04448490000[1].jpg"/>
          <p:cNvPicPr/>
          <p:nvPr/>
        </p:nvPicPr>
        <p:blipFill>
          <a:blip r:embed="rId2"/>
          <a:stretch/>
        </p:blipFill>
        <p:spPr>
          <a:xfrm>
            <a:off x="4572000" y="2438280"/>
            <a:ext cx="289548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can’t really know because they face lots of dangers in the wi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C:\Documents and Settings\bcsuser\Local Settings\Temporary Internet Files\Content.IE5\NJYR8WN9\MPj04424250000[1].jpg"/>
          <p:cNvPicPr/>
          <p:nvPr/>
        </p:nvPicPr>
        <p:blipFill>
          <a:blip r:embed="rId2"/>
          <a:stretch/>
        </p:blipFill>
        <p:spPr>
          <a:xfrm>
            <a:off x="4343400" y="2209680"/>
            <a:ext cx="2971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harks have a world wide range because they have adapted to live almost everywher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C:\Program Files\Microsoft Office\MEDIA\CAGCAT10\j0335112.wmf"/>
          <p:cNvPicPr/>
          <p:nvPr/>
        </p:nvPicPr>
        <p:blipFill>
          <a:blip r:embed="rId2"/>
          <a:stretch/>
        </p:blipFill>
        <p:spPr>
          <a:xfrm>
            <a:off x="3733920" y="3048120"/>
            <a:ext cx="311472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behavior is that they are really active especially in the nig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C:\Documents and Settings\bcsuser\Local Settings\Temporary Internet Files\Content.IE5\9KTC181G\MPj0182518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487980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harks threats are pollution and other sea anim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8" descr="C:\Documents and Settings\bcsuser\Local Settings\Temporary Internet Files\Content.IE5\KKWJ9YQA\MPj04371920000[1].jpg"/>
          <p:cNvPicPr/>
          <p:nvPr/>
        </p:nvPicPr>
        <p:blipFill>
          <a:blip r:embed="rId2"/>
          <a:stretch/>
        </p:blipFill>
        <p:spPr>
          <a:xfrm>
            <a:off x="2209680" y="2819520"/>
            <a:ext cx="51418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predators of the shark are whales and human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5" descr="C:\Documents and Settings\bcsuser\Local Settings\Temporary Internet Files\Content.IE5\9KTC181G\MPj04012650000[1].jpg"/>
          <p:cNvPicPr/>
          <p:nvPr/>
        </p:nvPicPr>
        <p:blipFill>
          <a:blip r:embed="rId2"/>
          <a:stretch/>
        </p:blipFill>
        <p:spPr>
          <a:xfrm>
            <a:off x="2743200" y="2438280"/>
            <a:ext cx="534996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2:05:05Z</dcterms:created>
  <dc:creator>bcsuser</dc:creator>
  <dc:description/>
  <dc:language>en-US</dc:language>
  <cp:lastModifiedBy> pc#22</cp:lastModifiedBy>
  <dcterms:modified xsi:type="dcterms:W3CDTF">2009-12-01T14:11:10Z</dcterms:modified>
  <cp:revision>13</cp:revision>
  <dc:subject/>
  <dc:title>The endangered Pygmy shark</dc:title>
</cp:coreProperties>
</file>